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0EF-939E-48F7-9356-442B3B16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D9D-C98F-4364-8EBD-ECF1A31F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880D3-4E76-4C7A-A97F-309EDC8A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92A32-9A8E-424A-838D-C8870C0A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BB950-F16A-4CD6-9796-E3C6851C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1D9A7-1707-4ABF-9A26-DD314D07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A58E2-D798-4085-A4D5-E31B2F19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05805-D541-4900-BDB7-BBF4D266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D349D-F9E3-4C32-AF44-0968FA97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D5E80-1EFB-4F1B-A688-A438A5C8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0CE5C-3E7F-4428-888B-751BC529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3F8CB-98CA-406A-9DF5-05B047F3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A6F-418C-4A10-82C6-380CE945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524D8-463C-4736-B7BD-9677AA28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FED2A-F6B0-4F87-BF9B-63ECF636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61333-D216-4E5F-904C-8B5BB803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23C6C-686A-44FD-AA97-2DB780F4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30E70-4C4C-4CD2-A8EA-2BABADC9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AEF31-41D9-4B09-A10B-E3BABFBC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F5B46-1EB5-459B-BA11-B88CA1F2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BE162-D16D-4197-A869-18CC9288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B99EC-E9D2-490C-9F96-40FDD5FD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3AE0D-7F18-4365-9299-86419898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9B4-0868-473A-BD3B-2E20ACD2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7D655-F8AA-47EC-9F64-334ED515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B2EFC-7798-472D-88DF-0086DCE7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A9D61-88FE-4FA6-8D0E-72669C16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673B8-0848-429C-A3BD-B9123D90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E6B58-DF7B-4510-801A-7FE1640D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C4218-A950-4E67-944A-6F65BAA8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D171C-DA33-4AF1-830A-FAEEEF8B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25BCA-C859-4B51-8009-FDF6D2B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59C33-37C7-46CE-88B9-6B9D7790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418EF-57EB-4B9F-A625-CD3F2FF5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BCE5-E5FA-4F4E-869C-96B93864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DB47C-7C60-4B98-8C8F-F93F9825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768BB-E269-4F74-8481-C65C5193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6BD30-40AA-4778-AAC4-F3647C37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99E20-ED4B-4CBA-9470-A270C0B2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7F685-A87B-4797-9115-3CE7BFB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B9B29-9315-4144-8E81-BA888EFB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25AC6-3E6B-4B1C-86B9-36636AB6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57BB8-8887-438B-8F04-63311CB0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1619C-1355-436F-AACC-A28DFBCB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98C60-71A2-4A45-8E28-6005D261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364F-7A5A-4FAC-BE1F-A055D55A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F93DC-BC14-4DC7-A158-FA34CBE0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6C558-332C-4258-9849-3A2306C5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18B76-0016-40BB-843E-9C09CA0A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1853F-2E47-4E5A-9E91-C4A45F47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B95AA-FC56-43F0-8236-A1311877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9F471-F9B5-4203-9847-85AC03DC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90CB1-9422-417C-A037-84EC7804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13D41-12BF-4B52-8E37-DF2D28A6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26240-5ED2-4B1D-8408-5BA5EA89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5EC1F-B8CA-49DC-A020-74DB53EE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08F3-D2A5-4D6A-9333-F4E441DA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9E92D-63BF-439D-A397-919B2E36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8E3D3-38A9-42E1-A644-39408551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1B8DB-19B4-49A2-BBD6-17CB7ECF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29627-AEF6-47C3-9BF0-2EE21A70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EFDD9-FCE4-400B-99B6-538BAF71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1D6BD-0C0E-4E2F-A575-FA7526D7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5EF5E-8B75-4DC3-A523-3F23D2B4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92CFB-B163-42B5-94DA-84648ECE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ACD63-D17A-4923-91B3-CEE7186E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0AD2B-DC01-41C0-BE5C-03DDF537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2FB9-374A-4FB8-8CC2-2DD069F8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E0348-AA5A-4FBB-BEE7-FB61E4A4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809CA-5357-4C8A-934D-24A4131F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55512-2DA0-4B91-B0BF-4D3562AA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E276E-89AB-444D-802D-755F4954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30ECF-F8B0-47C2-8BBD-564F5B45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C47DF-BD42-4E55-B7AE-EB2F521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1EB4B-65C3-4121-96BF-56AEB1DB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BE9ED-9AF4-4F21-B387-CD700E95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BC1F4-81BD-486A-AE0A-0018C051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D59830-72C2-460C-A25E-DB699C41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E1BD-9FB6-484D-85CA-BD9924E1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38ABC-648F-4813-83BF-BBD03C17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75320-511C-4305-A1B3-75BCF380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240EA-C592-4C4E-859B-8A61A7CF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61B04-04AC-416C-8DE1-A67F9ED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FBD64-ABA2-44BE-A9D0-689F7FD6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76F47-6324-4CCA-885F-4827E9EB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8B488-DCB2-43D7-938B-E34AB8DE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44768-F9CF-48AD-AC70-67842D42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09D1C-75A8-49D7-B5DC-2661E142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96A54C-4959-4AA3-9D29-95EAC5DD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649E-2E6C-4CCE-8770-DC7362B3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F8F23-A9E9-447B-9F78-647808AC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2ABED-C29F-41B3-A64F-9694737C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19CBE-8090-41BF-AED4-2F4AB54F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07D1A-4338-4DF4-ACE9-C08472C3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52EC7-70C2-44EA-B3C6-9FDC3170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83D23F-A99E-4419-8A9C-75558CCA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0B482-FDDA-455D-AD7D-14A8E1C1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18947-185F-4F5D-98D7-E3D3631C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98A74-9407-4F0B-A607-2F8C51F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A6AA3-37C6-43A9-A8AC-E650838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A0B5-8D3A-4BFB-AEBF-84908CF4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B55A6-0CEA-4710-9AAC-E4845AEC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20F2E-19C3-4313-B777-7D0CE659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F6CE4-F277-4520-A35A-3016C831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042C8-AA8C-4E33-AF41-13D1FCCF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87E25A-07E1-4193-A02D-7F784F34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9095E-943A-4511-AF53-EFE1F405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F1AE2-2B0B-45B6-AB39-EBB273D0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495B0-AEF4-4355-B96B-FF12B7A6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F1C41-21B6-4721-A887-FA828F04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51467-89C3-4398-B64A-9852BB0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220-D558-4417-B0E9-C3A8C052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5F93-6423-4DEE-8472-04BD8BBC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23819-5E40-41FD-A7F0-E443C1D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D5F4B-1BA6-4763-A423-6AAD688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4BA3D-4612-41FA-BDA4-6359E00A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E528F-AD41-4705-B316-CEE75C1A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DDF8C-8D7E-4498-86B2-72BC54A2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E5AD25-A66E-470D-9069-3D6C9F8E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2337E-D14A-4A8C-9452-E39BFD57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17F101-35C4-480F-8A60-0E2FAFAD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608BF-E4E4-486A-AF74-D975056D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BCE223-7178-4DC5-958B-7A7229A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BB15-5AFB-4D6B-9FD5-DC5EF5F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497D9-FDF6-42EE-9337-495D7A0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92265-8C04-4F14-A2D9-662D2135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D68B4-6C60-4C1E-8523-439BF1E1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14754-CF0C-43B5-B7DA-8D3E479F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44253-1D7B-45C0-9F38-C86A3CC1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E63AFC-7E21-4953-876C-E3E5460D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07334-1648-490A-998E-84AEEFEC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BAF7E0-A04A-4B6A-9807-2B427DF2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115C64-60EE-4E9E-A491-9F03E58C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588F91-2BED-41CD-821B-586311FB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082F-874A-49D5-A4EC-470531E7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4B38A2-0AC7-45C8-92F2-28E642E3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FC75C-098B-4771-9898-6CB229EF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B8EAD-FD1B-452E-B01A-0203A29B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B4BB56-4400-4CF7-9EC9-0324CDDA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F50F91-77B7-49C4-AB69-5BDAE380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E4878-CE90-4F22-92C8-22C484F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71FB6-C1AE-40A7-81A1-16D7A1F4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12618-699F-4809-995C-17EA704C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8232F-78E0-49EE-93D4-62FCCC89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9BD3D-F63E-467D-A73A-D5C9ABE3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6ACB-1234-451E-933D-4426E406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E03CC-E4CB-4E53-A67D-7F88E1F5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43F0A-2EAD-43AA-AB86-708E3473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844C7-2355-4B9B-8D27-BB4036DF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FCA3F-E4B4-45B4-B4B5-24708D8A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DA151C-A9C5-4752-AED5-104AC864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6B794-174A-4672-A916-B83EA883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779E28-76BB-462E-9FDF-E53018F8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7C65B-4894-4E05-BC41-982F654F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EBE0C-83A8-4686-A033-D8AE8002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D0EB0-67EF-4EDE-9CAA-C39D9BD7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2AE8-5430-432B-971F-37B09E9A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6083C-3489-42FF-94AF-D3D6F88E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79997-F7EE-429E-9062-DA2B4326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301F4-14EA-4E55-BDFB-0BC1E1CA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D94C94-6A88-43C8-ADC2-B23F2318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462DB-8AD8-431A-933C-DCC5E1B5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6A83B-73A3-4E99-802F-62FEA7BA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5837C-7773-4CDF-BEA9-5B15AB63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3378A-305A-48D1-8D01-4BB92814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23584-4510-484A-8CB9-46E9C3F0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54CD7-973B-44AF-A3D2-9B4B7566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4005-6C5B-4EDE-98A2-2A7B6402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B36BD-0959-49A9-B920-F2DF10A2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63746F-A008-44F0-952A-16BFB02D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F17AB1-2F15-4717-B67D-481C19A8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598845-518F-4925-9991-C718F733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CFA15E-1207-4E2E-8A5B-82E56E2B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A19A9B-2BC0-4860-ADCC-19AACA0A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CB2EDE-EFDC-46BE-9FEF-2965D173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4CEE8F-19A9-4223-80E4-C1418A74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67EBFB-D2F3-424E-9358-E0ECA9F1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CB550-FE65-44DF-9B67-E1AA5B09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04DE-2DBC-4730-B779-32AFB790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550C65-2DB2-456C-A1DF-C2E3CD1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1592FD-2AC2-47BE-B9B1-DE5E265D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3C032A-ADC5-443B-899B-4670C133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05E080-3E09-4550-B25D-97E81A68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2DADC0-D6F0-406D-85B2-83FD165F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A187BD-6C09-45EE-A8D4-687EDD4B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BDE777-6105-4CBA-B507-1F07938D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7864EA-658C-48C4-8A80-1694676C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968CF6-BDD7-4B95-BC61-80199A46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BE9EC5-0E43-49C0-B78B-33CE489C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8838-C0F9-4714-A862-02D857E3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71D1E9-5AFB-4688-86F5-10F298F0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C63C73-598C-47D9-82FD-8C2186C0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100E55-17B0-4A5F-8F0D-C81B9C2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56EE07-69A7-4FD8-8B2D-4487B4FC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137C78-CECE-4B59-967C-C715CFF0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DBA81-7E88-46FC-90AB-4BA93247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744B1C-C86E-47D5-B5AD-521FAD13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6BE423-84AC-48AC-812B-F00FDD63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75929A-3749-4186-B5E2-91610EAD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67A1E5-A1A5-47DE-B39E-86C10DAD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191D-F315-481E-907A-78A1B40A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0FD4FC-877B-4A06-A7D6-B0CBF0DA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17685A-3838-4897-B445-7F589A2C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F6885C-3879-4CCC-8FEF-C52CF79F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EA810A-EFE5-4772-8476-D6046DE6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AD80EA-5A5F-406B-9D0F-3A3E8FEB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11CDDF-FC88-45B9-A9E9-09E92262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5ED462-D42A-4E94-BE0B-0B4BEFBB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9C9C6F-0B31-49BE-9D6E-FB326768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898AE7-B719-48B9-B757-820F50BA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3C029E-A8B3-45DC-8C05-84F354BA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0636-36EB-4B37-813E-72D2CD1B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B39D71-2ECF-4DD7-9363-5C310309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700176-4B62-4A1E-9120-692CF97C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E112C0-4161-4E62-B6C2-27DD7956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A65116-11B3-45F6-9152-D5189737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12EDE6-84F1-4ABA-BE4E-CECC03F4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E8CDE3-8C4C-4684-BAA0-ED6D8A1D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34E61F-B5F8-4995-B2DD-5CE52FBD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7C8EF4-E758-48AA-8C97-C4FEAFF0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77ADDA-4C4D-4253-AC5B-7DB472A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B1D761-05C1-4CA8-A2F4-60811E89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8FA-8B54-4F73-8C59-46F46AB5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5957-E9AF-4D11-B73E-92B19342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E7A2B6-3217-408A-ACA5-3315AB36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AF208D-22FF-446B-A2E9-57C71236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45C210-9F07-4B0B-8D13-BC967B8C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951DEB-60FB-465D-9019-C1D19062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459A61-EB95-4A96-8C29-D6313249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6D846A-4191-48E7-9BAE-A37C06AD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000521-9EC3-4A84-9969-E13F1DDB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C5EF56-64D1-4F47-AC54-A1F8AAD9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F49FAE-F70E-49D2-B620-70340310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12E351-C8DD-4BED-A129-727E6B84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DAA5-0408-4078-B99B-28C010A0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4F5BA3-84B0-4AC8-9566-3028532B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106921-53C6-461D-B8C8-86754487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66A552-666B-4031-A91E-50151194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568F66-7791-4E97-BE5A-F18E5BE4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5C55E6-168D-4369-B1EE-22D8256E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8529C6-C7F0-411C-B6D2-A0CF1DCE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8802AE-B538-41CC-8432-7823D9A1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D668DB-42E2-498B-A111-EA1D5CAB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EEE5CD-1BD7-4E8A-A554-53071747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BEA9A8-B377-435B-BD69-0B1F25EC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A965-E872-4B1C-9D29-E3DBFA98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34FFFA-AD48-4C7E-9D70-9232D537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E80A89-C5D8-4F8E-BBA9-27CDE21B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E679F4-2999-4E42-AC19-DE3187D9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BDC082-8588-4420-9682-F3BBFA41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A86F23-8927-4156-8BFA-BD62B76F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66F60E-C648-4C52-B290-298BE94A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70B7E0-EB00-4E4F-AA37-F23F3EC8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E8DA54-F634-4D30-AD46-F67EF26C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F9E0BD-8794-42F9-A10E-F518BD59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B6586C-3EB3-4F73-AA13-6E019F01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BB71-1A2D-43B1-BB12-9FCC59D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4A20AF-03DC-4413-AC84-C40D37DE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FD9648-6DCD-4B98-8A84-6D9CE00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F0A8FF-C303-4FB1-B245-C80B83AA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B742FC-8416-4F0E-BEB7-2D6757AD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0ED1E9-8CE6-46C8-BDEF-7D24AB82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03335F-CD6F-43D7-8170-DD3052CD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EB4B5A-0373-4088-906A-ADC2F682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FCBD6B-7632-4593-ADDC-70A8DC80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8185A6-C5FD-49AC-A4B7-906D5052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FDA7FA-C14F-4C4C-BFB9-4D266B06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CA8D-77AE-4BDB-8411-B15BA715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DBBA65-083E-40B5-8522-E9829197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BDF796-9A8D-434B-BA90-8DB8BC4E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577F75-3DAA-4CC8-93D7-413DF90A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72DBBC-E705-4EDD-A93E-53B451C9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5F621F-6D0C-4E12-A8DE-430C078F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16B7B3-AB2E-417F-ABF7-CD5A52A0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607485-9508-43A8-B11D-606DC55E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293A93-AB50-4676-A04F-4D39AA28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03949A-9ACD-45F8-AB21-A9F8401F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302897-8B5A-4FBF-B8DE-4B1AE3C5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082A5-F38A-4FCA-B62C-6A72721C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F294E7-C9E4-4931-A1B9-CC3DA018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9F2053-CC0C-4484-A1BC-704E32B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80C366-1850-4294-A31B-C09EB3D6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C4925C-679C-42FA-AEFC-71F106D1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891415-3447-445E-8451-4BD410B8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E90901-456B-4343-B014-20CCC9EB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43B770-98B9-45A2-805A-AC90E9CB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516B73-DF50-4CFE-A752-C6923FB7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06CB5F-C64C-4FE8-A641-363B23DC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2ADB2B-14EF-4FA2-8990-73B057DB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C967-A758-4D25-A749-F84E8ED4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7A71B0-4EB1-41B0-BF5C-07FD189E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85133A-25FF-48E3-96D5-4480ADDB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A18B1B-0FB7-435F-A092-AFBF6950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C286E3-6BBB-45EC-89B3-78E61EB0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DA104B-9277-43CA-9E78-191DAED5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E14E78-E8CC-461F-A7F4-2E063580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72EA83-8C01-41CC-B64E-1DB1BD37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8FDBC8-45B5-4B8D-96D1-57D09E3D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C3D301-8E40-42FA-AA6C-83986D7B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FC2662-D32C-490C-B55E-1D964436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37DB-FEF5-4571-A26E-70DFD8E0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FD5315-DE26-431A-8EAE-86E7818E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90EB2E-9405-4577-BB82-64302F61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8D3563-05B3-41E4-A59B-7D7B096A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32BD0-8A79-4180-A26F-5A7AB342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AFC4-AEEC-4496-B459-16A93BC7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5CB-0DE4-462A-8219-252B2FBD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707B-E3BB-43BF-B225-8AE55FFB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CCAAC-0FA2-4967-8592-0B977DCC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4199B-4B20-41B1-AFDD-59EBDB8A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DF4AF-FAD9-4966-ACCA-530B5C3C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936D-506A-46E3-8080-37FFC9D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DDBE0-715F-4BB4-9498-162960F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2AD74-6D77-4FE0-BD1D-87436193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489D-9D29-4AF8-823F-C3DCA12D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828C8-7A52-49FA-AF6F-6D8D89AE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1CB54-224B-4192-8C9C-99F205FF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147-7215-4141-9B8E-E8E92D05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0437A-25D3-4382-B31C-7003EFFE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2641-1310-4540-AB16-57E1DDBC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120E7-F7F6-4866-8A0C-BC210B0D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51C7D-7A20-49E6-95AF-E173A025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EAB2-BF2D-49C6-8460-2D9FFEB0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1E7C4-5A4A-408D-954E-9F750EF5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48175-7F69-418A-84E3-046711A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BE8C5-E1E1-4E30-8F4B-CA3AFDB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026ED-9475-4C51-A0BA-A3CEC5B6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4748-DBF4-4D41-B0B3-924F75F4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C69-1251-4BB6-AD2E-3958D930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BF636-FE6D-49D0-8383-281037E8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BCD91-8E72-448D-806A-B9937535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83F39-CC10-41ED-91B6-49EBB750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59154-2613-4ED8-AB15-6F014EEF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E0D04-7CF0-406B-A1AA-941A8591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1CF82-A5D6-448B-AD11-9FA00B6F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ACD94-0264-4A89-9120-4861E1B4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828A4-436F-46FD-8D36-F9ABC77A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9EF8E-9FE6-4D50-9FA7-174FC31E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AD96F-A648-48CB-AE6A-4027A974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FBA-EB15-47E4-B895-DB03FDE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6B039-698D-47D7-ABA0-72C98369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21515-D78A-4FD0-8D4C-722F48DD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31695-596D-49D5-B35F-1912958F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49161-2EB3-478E-8A18-35E74908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A7AB9-A6F4-41F9-82AE-B5508AE4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739DC-A20A-4254-A746-D0B96E61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93AF7-C310-4349-B45C-02897B09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F0587-FBDC-40CC-890C-FF59588A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681E6-6DD9-4FA4-B450-409A29C9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2A92D-0484-44A1-85D5-9B6C809E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68E-B5DA-4C71-9430-A500E203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94A6E-75E0-427E-9142-C5C3D0A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3AB8E-4115-4672-B41F-6E55F71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8779C-4C32-4B90-8606-D4BFB84C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9AB9-8CA5-4F4B-88AB-61A7090C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36CB4-2555-4A5A-ABC3-B735266D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87087-AD86-455E-B49C-7EC8D53D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9D1BB-57B9-4A59-AF37-6F49E7C0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A0DDD-11F2-48AD-8DC4-0127F39F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FA7EA-D74B-4869-95B6-BC0B2C16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34AC5-FC8A-440D-8660-16C597A0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EB2-BBCB-437B-9F32-5F2234F6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1FDF2-F757-4A9F-8A1D-361A8016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F00B3-645C-4EEA-AB17-0D0B62C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784CC-785B-48DC-8685-1B45F00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7B504-B9AB-4D2F-A80B-F80CF1A4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810DD-A482-4033-BA53-68D2CBD6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687DD-B89A-4137-BD84-8E1F143C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0EBE1-4F9C-4C5A-9B44-374AD551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7108A-5EF4-41B0-BB73-04D0B986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704FA-C06E-44CF-8137-EC971023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D7ECC-0DE9-4A8F-835E-56AD2264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317F-2F7F-4F16-BEC3-1F781EB1A8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E326-4C7C-4E8B-BC78-F5AD26493A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D581-CCF8-4A29-AD90-F8594FD9A2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280F-64AE-42C8-9AC1-BB540E62DD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50BF-F9A0-41C9-B279-07CEE63ECA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9642-C1FB-468A-8197-41182A820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3E2F-1B0A-4E3B-8AFF-221873B197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5D02-E362-4189-9EF4-576C21767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6FE-0D62-4C14-84C8-C72CEEE2CE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4596-AEDD-4EEB-B82B-E1D160AD4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C34C-4E65-4DD7-BAAD-1BA5519CB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20B-0CE3-4BDD-9335-80FC3B712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C7F0-3D66-4ED2-B145-8BCAA20957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8273-24AB-469D-B98E-02D648B040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C050-5355-45DF-A8D1-DA05C716F7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B023-3E2F-47D3-B955-CB4E71B0AC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1137-A398-41C1-AFE0-B76591D3C5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3606-12E2-4713-831D-12E8D63048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523A-324D-4D43-BD4E-F8C0D2BCD9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9637-B4C5-46F0-8827-5A9D2FB4C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3060-ABAC-480B-9402-BE09C665F1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DC4A-EA85-43A4-87C8-6C8B2647EB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4DCA-9070-4030-A39C-4BDB2676DC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05CE-B3BF-4731-B6F5-4AA4A66525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88A0-DAA0-43A6-8483-4B8B30C1C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2F7-05A5-4C2D-A407-BFC4A097C3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A9E2-84DF-4644-88DA-B695CEBD6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F825-E767-4FF3-A07B-1A1B46C9DC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E1A6-ADFB-4A8A-BD1C-5E14F82053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FED-F428-43E0-B585-1C77C88488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5350-0324-4F6A-AA0D-CB48FCBD2B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D020-2FBE-4F0E-B394-5FC2D5EADA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8D15-7BE4-4FD9-AB97-2E42F89782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358A-7EAE-4CB9-B414-F34AFD2FB4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C0D4-AF14-48C7-B179-7A38273315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6D57-D96E-4C40-97F5-DF8A063E3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BA59-4916-4FFA-BE87-AE7993C852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5A70-14A8-44C8-B696-2290C90D30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F68D-C402-49DA-8303-CCA18B4380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2CDB-56B1-415C-ADFD-DC24C39363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D9A8-1526-4A10-9728-D9CA900466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BC13-7AAD-4E27-9013-CD2F158A6E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CB7A-8D4A-4677-AD76-70099DE71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1EAD-BF2C-4742-929D-C36BCDAF2E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ABD1-66A0-4E2F-BC33-5385BD6D22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218A-9DED-4A2D-B56C-B3174BCBE5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2E3A-8974-445C-9C34-D82EF1C382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5AC-A264-4672-8B91-C03DAD2BE6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F2A4-28EF-43A8-9C58-DB48A8976F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CEAC-3C9B-43AB-8E62-CACE25F2A8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492360" y="1628640"/>
            <a:ext cx="2210040" cy="107640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962160" cy="83808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63342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6737" descr=""/>
          <p:cNvPicPr/>
          <p:nvPr/>
        </p:nvPicPr>
        <p:blipFill>
          <a:blip r:embed="rId1"/>
          <a:stretch/>
        </p:blipFill>
        <p:spPr>
          <a:xfrm>
            <a:off x="776160" y="1728720"/>
            <a:ext cx="7591680" cy="34005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6738"/>
          <p:cNvSpPr/>
          <p:nvPr/>
        </p:nvSpPr>
        <p:spPr>
          <a:xfrm>
            <a:off x="5837400" y="1724040"/>
            <a:ext cx="8953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6739"/>
          <p:cNvSpPr/>
          <p:nvPr/>
        </p:nvSpPr>
        <p:spPr>
          <a:xfrm>
            <a:off x="6621480" y="2216160"/>
            <a:ext cx="8953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6740"/>
          <p:cNvSpPr/>
          <p:nvPr/>
        </p:nvSpPr>
        <p:spPr>
          <a:xfrm>
            <a:off x="7203960" y="2679840"/>
            <a:ext cx="12556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6741"/>
          <p:cNvSpPr/>
          <p:nvPr/>
        </p:nvSpPr>
        <p:spPr>
          <a:xfrm>
            <a:off x="752400" y="3171960"/>
            <a:ext cx="12556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6742"/>
          <p:cNvSpPr/>
          <p:nvPr/>
        </p:nvSpPr>
        <p:spPr>
          <a:xfrm>
            <a:off x="2933640" y="4146480"/>
            <a:ext cx="5526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6743"/>
          <p:cNvSpPr/>
          <p:nvPr/>
        </p:nvSpPr>
        <p:spPr>
          <a:xfrm>
            <a:off x="1116000" y="4619520"/>
            <a:ext cx="3024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991640" cy="584856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2268360" y="2349360"/>
            <a:ext cx="503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1"/>
          <p:cNvSpPr/>
          <p:nvPr/>
        </p:nvSpPr>
        <p:spPr>
          <a:xfrm>
            <a:off x="4097160" y="3556080"/>
            <a:ext cx="835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2"/>
          <p:cNvSpPr/>
          <p:nvPr/>
        </p:nvSpPr>
        <p:spPr>
          <a:xfrm>
            <a:off x="5965920" y="3565440"/>
            <a:ext cx="834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3"/>
          <p:cNvSpPr/>
          <p:nvPr/>
        </p:nvSpPr>
        <p:spPr>
          <a:xfrm>
            <a:off x="4284720" y="4076640"/>
            <a:ext cx="165564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4"/>
          <p:cNvSpPr/>
          <p:nvPr/>
        </p:nvSpPr>
        <p:spPr>
          <a:xfrm>
            <a:off x="3292560" y="4570560"/>
            <a:ext cx="30798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5"/>
          <p:cNvSpPr/>
          <p:nvPr/>
        </p:nvSpPr>
        <p:spPr>
          <a:xfrm>
            <a:off x="5543640" y="548496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6"/>
          <p:cNvSpPr/>
          <p:nvPr/>
        </p:nvSpPr>
        <p:spPr>
          <a:xfrm>
            <a:off x="2228760" y="5977080"/>
            <a:ext cx="1766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7"/>
          <p:cNvSpPr/>
          <p:nvPr/>
        </p:nvSpPr>
        <p:spPr>
          <a:xfrm>
            <a:off x="5845320" y="5996160"/>
            <a:ext cx="1766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3905" descr=""/>
          <p:cNvPicPr/>
          <p:nvPr/>
        </p:nvPicPr>
        <p:blipFill>
          <a:blip r:embed="rId1"/>
          <a:stretch/>
        </p:blipFill>
        <p:spPr>
          <a:xfrm>
            <a:off x="738360" y="2095560"/>
            <a:ext cx="7667280" cy="266688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3906"/>
          <p:cNvSpPr/>
          <p:nvPr/>
        </p:nvSpPr>
        <p:spPr>
          <a:xfrm>
            <a:off x="3695760" y="2198520"/>
            <a:ext cx="13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3907"/>
          <p:cNvSpPr/>
          <p:nvPr/>
        </p:nvSpPr>
        <p:spPr>
          <a:xfrm>
            <a:off x="5373720" y="216864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3908"/>
          <p:cNvSpPr/>
          <p:nvPr/>
        </p:nvSpPr>
        <p:spPr>
          <a:xfrm>
            <a:off x="3122640" y="268128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3909"/>
          <p:cNvSpPr/>
          <p:nvPr/>
        </p:nvSpPr>
        <p:spPr>
          <a:xfrm>
            <a:off x="4630680" y="267984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3910"/>
          <p:cNvSpPr/>
          <p:nvPr/>
        </p:nvSpPr>
        <p:spPr>
          <a:xfrm>
            <a:off x="6448320" y="268128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3911"/>
          <p:cNvSpPr/>
          <p:nvPr/>
        </p:nvSpPr>
        <p:spPr>
          <a:xfrm>
            <a:off x="1927080" y="3192480"/>
            <a:ext cx="17082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3912"/>
          <p:cNvSpPr/>
          <p:nvPr/>
        </p:nvSpPr>
        <p:spPr>
          <a:xfrm>
            <a:off x="2509920" y="3675240"/>
            <a:ext cx="17082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2881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39160" cy="548640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2882"/>
          <p:cNvSpPr/>
          <p:nvPr/>
        </p:nvSpPr>
        <p:spPr>
          <a:xfrm>
            <a:off x="7715160" y="253836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2883"/>
          <p:cNvSpPr/>
          <p:nvPr/>
        </p:nvSpPr>
        <p:spPr>
          <a:xfrm>
            <a:off x="7786800" y="4959360"/>
            <a:ext cx="549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21857" descr=""/>
          <p:cNvPicPr/>
          <p:nvPr/>
        </p:nvPicPr>
        <p:blipFill>
          <a:blip r:embed="rId1"/>
          <a:stretch/>
        </p:blipFill>
        <p:spPr>
          <a:xfrm>
            <a:off x="573120" y="1003320"/>
            <a:ext cx="8010360" cy="1952640"/>
          </a:xfrm>
          <a:prstGeom prst="rect">
            <a:avLst/>
          </a:prstGeom>
          <a:ln w="0">
            <a:noFill/>
          </a:ln>
        </p:spPr>
      </p:pic>
      <p:pic>
        <p:nvPicPr>
          <p:cNvPr id="1456" name="图片 121858" descr=""/>
          <p:cNvPicPr/>
          <p:nvPr/>
        </p:nvPicPr>
        <p:blipFill>
          <a:blip r:embed="rId2"/>
          <a:stretch/>
        </p:blipFill>
        <p:spPr>
          <a:xfrm>
            <a:off x="966960" y="3116160"/>
            <a:ext cx="7648560" cy="280044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21859"/>
          <p:cNvSpPr/>
          <p:nvPr/>
        </p:nvSpPr>
        <p:spPr>
          <a:xfrm>
            <a:off x="7740720" y="213372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2083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29800" cy="534348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20834"/>
          <p:cNvSpPr/>
          <p:nvPr/>
        </p:nvSpPr>
        <p:spPr>
          <a:xfrm>
            <a:off x="7740720" y="242100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0835"/>
          <p:cNvSpPr/>
          <p:nvPr/>
        </p:nvSpPr>
        <p:spPr>
          <a:xfrm>
            <a:off x="5540400" y="479268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9809" descr=""/>
          <p:cNvPicPr/>
          <p:nvPr/>
        </p:nvPicPr>
        <p:blipFill>
          <a:blip r:embed="rId1"/>
          <a:stretch/>
        </p:blipFill>
        <p:spPr>
          <a:xfrm>
            <a:off x="566640" y="1552680"/>
            <a:ext cx="8010720" cy="375264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9810"/>
          <p:cNvSpPr/>
          <p:nvPr/>
        </p:nvSpPr>
        <p:spPr>
          <a:xfrm>
            <a:off x="7740720" y="299736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8785" descr=""/>
          <p:cNvPicPr/>
          <p:nvPr/>
        </p:nvPicPr>
        <p:blipFill>
          <a:blip r:embed="rId1"/>
          <a:stretch/>
        </p:blipFill>
        <p:spPr>
          <a:xfrm>
            <a:off x="571680" y="2247840"/>
            <a:ext cx="8001000" cy="236232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8786"/>
          <p:cNvSpPr/>
          <p:nvPr/>
        </p:nvSpPr>
        <p:spPr>
          <a:xfrm>
            <a:off x="7740720" y="321300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7761" descr=""/>
          <p:cNvPicPr/>
          <p:nvPr/>
        </p:nvPicPr>
        <p:blipFill>
          <a:blip r:embed="rId1"/>
          <a:stretch/>
        </p:blipFill>
        <p:spPr>
          <a:xfrm>
            <a:off x="604800" y="1424160"/>
            <a:ext cx="7934400" cy="400968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7762"/>
          <p:cNvSpPr/>
          <p:nvPr/>
        </p:nvSpPr>
        <p:spPr>
          <a:xfrm>
            <a:off x="3395520" y="4948200"/>
            <a:ext cx="8892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7:05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